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938-136B-4BE4-B716-C9867A0B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454-CA7F-42DA-86F0-B9D3A29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B3B-40B2-487F-8774-1712ABF2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392-C3C3-46E5-941B-A2109696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993B-3345-43FB-9831-CF4A6F76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E988-DA24-4ACE-8C35-BDFD22D3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0A7-857B-4F6E-B13C-D861D72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36A-08D0-4AF7-90E9-354548CC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B491-F5CF-4558-B568-CE07420B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273F-09BE-4C8A-90B2-D371CED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7BD-43EB-4447-A90C-995B085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3FE-8D48-4999-927C-05EA49B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6500-514F-49C4-85A5-9FB5CB6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15E-C677-437C-B181-427C783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BA0-4010-4F90-8FBC-394DC4F9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DD1-6CDF-4C8A-9CBF-7DA75E99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D89-8B93-4B10-8427-D68BD30A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415-668D-4CE8-B4EA-C5EA9CA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811-98A4-49AA-BCD1-077CD60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C4E-64E6-4947-A721-1646E4AD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03D-0A4C-4C72-9DE6-C905462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6D3-2ED7-42E9-A596-E860CB9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AC8-5CB5-476E-A85B-701991F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5D0-30B0-40CB-BF7D-BC15C0F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31A7-5B8B-4F9B-81F4-1C24AA2725F4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327-268B-4566-A936-7848698384EF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8088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prains and Bruis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 Michaela =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524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prains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sprain is when a joint is suddenly and violently stretched 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most common places to get sprains are wrists, knees, and ankle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80060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ruises!!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rains and bruises are usually common, non-serious  problem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21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00600" y="4724280"/>
            <a:ext cx="1397160" cy="136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76720" y="3048120"/>
            <a:ext cx="16254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happen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oth sprains and bruises are common and not seriou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en  you get a sprain or a bruise, the skin around it can become swolle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t can be very painful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725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DO I DO!?!?!?!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bruised/sprained part of the body should NOT be used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levate the sprained/bruised p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y an ice pack for the first twenty four hour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swelling and pain do not stop, see a docto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45:04Z</dcterms:created>
  <dc:creator>Kraybill Campus LMS</dc:creator>
  <dc:description/>
  <dc:language>en-US</dc:language>
  <cp:lastModifiedBy>Kraybill Campus LMS</cp:lastModifiedBy>
  <dcterms:modified xsi:type="dcterms:W3CDTF">2011-05-23T14:39:36Z</dcterms:modified>
  <cp:revision>4</cp:revision>
  <dc:subject/>
  <dc:title>Sprains and Bruises</dc:title>
</cp:coreProperties>
</file>